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D50A-D4A6-4607-AFFC-DFC8F2BDF70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FAB7-FA0F-4B81-8711-402224BC2BD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425D-D604-4507-9203-6DD41BB95A1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E672-FA37-47EF-8035-FAEBF2BD1C8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FDEA-6CDB-408D-9C1E-F205BF56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3968-3730-43AB-87D4-52486FF0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8C92-46F1-4B04-9A25-A3298987B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3C6A-B335-4B5A-B8CE-F5AEEE05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C5D7-B55C-493A-9A8B-BED1EAA8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7ACE-8745-462B-8009-1B0E3FC7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D235-9452-46B3-92F1-82B912E4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0E88-1D46-416B-81CD-F11524C9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EC35-C3DB-4CDD-9A62-8D0A75E7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C8FB-B7EE-4F7F-8C92-E8050C7B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A6A1-EBFC-43CD-B595-B6CBEB77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7529-0396-4F97-AD86-55F19BF4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298D-AF40-4DC3-8C8F-CB3B95766BC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5"/>
          <p:cNvGraphicFramePr/>
          <p:nvPr/>
        </p:nvGraphicFramePr>
        <p:xfrm>
          <a:off x="1116000" y="692280"/>
          <a:ext cx="1655640" cy="7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692280"/>
                    <a:ext cx="165564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797040" y="2881800"/>
            <a:ext cx="768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  <a:ea typeface="黑体"/>
              </a:rPr>
              <a:t>3.4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实际问题与一元一次方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0" y="157176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三章 一元一次方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2945880" y="4025160"/>
            <a:ext cx="33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课时 电话计费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5"/>
          <p:cNvSpPr/>
          <p:nvPr/>
        </p:nvSpPr>
        <p:spPr>
          <a:xfrm>
            <a:off x="3276720" y="58626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87200" y="1440000"/>
          <a:ext cx="8664840" cy="1127160"/>
        </p:xfrm>
        <a:graphic>
          <a:graphicData uri="http://schemas.openxmlformats.org/drawingml/2006/table">
            <a:tbl>
              <a:tblPr/>
              <a:tblGrid>
                <a:gridCol w="3514680"/>
                <a:gridCol w="2629080"/>
                <a:gridCol w="25210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主叫时间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方式一计费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方式二计费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于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8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25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8+0.19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50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文本框 1"/>
          <p:cNvSpPr/>
          <p:nvPr/>
        </p:nvSpPr>
        <p:spPr>
          <a:xfrm>
            <a:off x="598320" y="2798640"/>
            <a:ext cx="8034480" cy="82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解析：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时，方式一的计费其实就是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的基础上，加上超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部分的超时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0.25(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50)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3"/>
          <p:cNvSpPr/>
          <p:nvPr/>
        </p:nvSpPr>
        <p:spPr>
          <a:xfrm>
            <a:off x="281160" y="552600"/>
            <a:ext cx="8569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3)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&gt;35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时，两种计费方式哪种更合算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4"/>
          <p:cNvSpPr/>
          <p:nvPr/>
        </p:nvSpPr>
        <p:spPr>
          <a:xfrm>
            <a:off x="385920" y="3589200"/>
            <a:ext cx="8154720" cy="32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&gt;35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方式一：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8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0.25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50)= 108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0.25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50)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方式二：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88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0.19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50)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所以，当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＞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5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分时，方式二计费少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41985"/>
          <p:cNvGrpSpPr/>
          <p:nvPr/>
        </p:nvGrpSpPr>
        <p:grpSpPr>
          <a:xfrm>
            <a:off x="5183280" y="4276800"/>
            <a:ext cx="4212360" cy="1599840"/>
            <a:chOff x="5183280" y="4276800"/>
            <a:chExt cx="4212360" cy="1599840"/>
          </a:xfrm>
        </p:grpSpPr>
        <p:sp>
          <p:nvSpPr>
            <p:cNvPr id="157" name="矩形 41986"/>
            <p:cNvSpPr/>
            <p:nvPr/>
          </p:nvSpPr>
          <p:spPr>
            <a:xfrm>
              <a:off x="5183280" y="4276800"/>
              <a:ext cx="3951000" cy="1599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文本框 41987"/>
            <p:cNvSpPr/>
            <p:nvPr/>
          </p:nvSpPr>
          <p:spPr>
            <a:xfrm>
              <a:off x="5574960" y="4560480"/>
              <a:ext cx="38206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  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加超时费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0.19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元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/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组合 41988" descr=""/>
          <p:cNvPicPr/>
          <p:nvPr/>
        </p:nvPicPr>
        <p:blipFill>
          <a:blip r:embed="rId1"/>
          <a:stretch/>
        </p:blipFill>
        <p:spPr>
          <a:xfrm>
            <a:off x="133200" y="4425840"/>
            <a:ext cx="5127840" cy="1481400"/>
          </a:xfrm>
          <a:prstGeom prst="rect">
            <a:avLst/>
          </a:prstGeom>
          <a:ln w="0">
            <a:noFill/>
          </a:ln>
        </p:spPr>
      </p:pic>
      <p:grpSp>
        <p:nvGrpSpPr>
          <p:cNvPr id="160" name="组合 41991"/>
          <p:cNvGrpSpPr/>
          <p:nvPr/>
        </p:nvGrpSpPr>
        <p:grpSpPr>
          <a:xfrm>
            <a:off x="2448000" y="2979720"/>
            <a:ext cx="6695640" cy="1422000"/>
            <a:chOff x="2448000" y="2979720"/>
            <a:chExt cx="6695640" cy="1422000"/>
          </a:xfrm>
        </p:grpSpPr>
        <p:sp>
          <p:nvSpPr>
            <p:cNvPr id="161" name="矩形 41992"/>
            <p:cNvSpPr/>
            <p:nvPr/>
          </p:nvSpPr>
          <p:spPr>
            <a:xfrm>
              <a:off x="2448000" y="2979720"/>
              <a:ext cx="6695640" cy="1422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文本框 41993"/>
            <p:cNvSpPr/>
            <p:nvPr/>
          </p:nvSpPr>
          <p:spPr>
            <a:xfrm>
              <a:off x="3431520" y="3137760"/>
              <a:ext cx="5021280" cy="459720"/>
            </a:xfrm>
            <a:prstGeom prst="rect">
              <a:avLst/>
            </a:prstGeom>
            <a:solidFill>
              <a:srgbClr val="ff9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加超时费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0.25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元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/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组合 41994" descr=""/>
          <p:cNvPicPr/>
          <p:nvPr/>
        </p:nvPicPr>
        <p:blipFill>
          <a:blip r:embed="rId2"/>
          <a:stretch/>
        </p:blipFill>
        <p:spPr>
          <a:xfrm>
            <a:off x="133200" y="2975040"/>
            <a:ext cx="2354400" cy="1431720"/>
          </a:xfrm>
          <a:prstGeom prst="rect">
            <a:avLst/>
          </a:prstGeom>
          <a:ln w="0">
            <a:noFill/>
          </a:ln>
        </p:spPr>
      </p:pic>
      <p:sp>
        <p:nvSpPr>
          <p:cNvPr id="164" name="直接连接符 41997"/>
          <p:cNvSpPr/>
          <p:nvPr/>
        </p:nvSpPr>
        <p:spPr>
          <a:xfrm>
            <a:off x="142920" y="4419720"/>
            <a:ext cx="90010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41998"/>
          <p:cNvSpPr/>
          <p:nvPr/>
        </p:nvSpPr>
        <p:spPr>
          <a:xfrm>
            <a:off x="160200" y="4351320"/>
            <a:ext cx="1800" cy="77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41999"/>
          <p:cNvSpPr/>
          <p:nvPr/>
        </p:nvSpPr>
        <p:spPr>
          <a:xfrm>
            <a:off x="4753080" y="4348080"/>
            <a:ext cx="119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3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直接连接符 42000"/>
          <p:cNvSpPr/>
          <p:nvPr/>
        </p:nvSpPr>
        <p:spPr>
          <a:xfrm>
            <a:off x="5184720" y="4348080"/>
            <a:ext cx="1800" cy="77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42001"/>
          <p:cNvSpPr/>
          <p:nvPr/>
        </p:nvSpPr>
        <p:spPr>
          <a:xfrm>
            <a:off x="0" y="429084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42002"/>
          <p:cNvSpPr/>
          <p:nvPr/>
        </p:nvSpPr>
        <p:spPr>
          <a:xfrm>
            <a:off x="2089080" y="4348080"/>
            <a:ext cx="12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42003"/>
          <p:cNvSpPr/>
          <p:nvPr/>
        </p:nvSpPr>
        <p:spPr>
          <a:xfrm>
            <a:off x="2460600" y="4348080"/>
            <a:ext cx="1440" cy="77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组合 42004"/>
          <p:cNvGrpSpPr/>
          <p:nvPr/>
        </p:nvGrpSpPr>
        <p:grpSpPr>
          <a:xfrm>
            <a:off x="0" y="2349360"/>
            <a:ext cx="2700000" cy="593640"/>
            <a:chOff x="0" y="2349360"/>
            <a:chExt cx="2700000" cy="593640"/>
          </a:xfrm>
        </p:grpSpPr>
        <p:sp>
          <p:nvSpPr>
            <p:cNvPr id="172" name="圆角矩形 42005"/>
            <p:cNvSpPr/>
            <p:nvPr/>
          </p:nvSpPr>
          <p:spPr>
            <a:xfrm>
              <a:off x="0" y="2349360"/>
              <a:ext cx="2530800" cy="593640"/>
            </a:xfrm>
            <a:prstGeom prst="roundRect">
              <a:avLst>
                <a:gd name="adj" fmla="val 16667"/>
              </a:avLst>
            </a:prstGeom>
            <a:solidFill>
              <a:srgbClr val="434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文本框 42006"/>
            <p:cNvSpPr/>
            <p:nvPr/>
          </p:nvSpPr>
          <p:spPr>
            <a:xfrm>
              <a:off x="80640" y="2349360"/>
              <a:ext cx="261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计费方式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组合 42007"/>
          <p:cNvGrpSpPr/>
          <p:nvPr/>
        </p:nvGrpSpPr>
        <p:grpSpPr>
          <a:xfrm>
            <a:off x="0" y="5950080"/>
            <a:ext cx="2700000" cy="522000"/>
            <a:chOff x="0" y="5950080"/>
            <a:chExt cx="2700000" cy="522000"/>
          </a:xfrm>
        </p:grpSpPr>
        <p:sp>
          <p:nvSpPr>
            <p:cNvPr id="175" name="圆角矩形 42008"/>
            <p:cNvSpPr/>
            <p:nvPr/>
          </p:nvSpPr>
          <p:spPr>
            <a:xfrm>
              <a:off x="0" y="5950080"/>
              <a:ext cx="2530800" cy="522000"/>
            </a:xfrm>
            <a:prstGeom prst="roundRect">
              <a:avLst>
                <a:gd name="adj" fmla="val 16667"/>
              </a:avLst>
            </a:prstGeom>
            <a:solidFill>
              <a:srgbClr val="434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文本框 42009"/>
            <p:cNvSpPr/>
            <p:nvPr/>
          </p:nvSpPr>
          <p:spPr>
            <a:xfrm>
              <a:off x="80640" y="5950080"/>
              <a:ext cx="26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计费方式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上箭头 42011"/>
          <p:cNvSpPr/>
          <p:nvPr/>
        </p:nvSpPr>
        <p:spPr>
          <a:xfrm>
            <a:off x="5111640" y="4130640"/>
            <a:ext cx="144720" cy="317520"/>
          </a:xfrm>
          <a:prstGeom prst="upArrow">
            <a:avLst>
              <a:gd name="adj1" fmla="val 50000"/>
              <a:gd name="adj2" fmla="val 5483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42012"/>
          <p:cNvSpPr/>
          <p:nvPr/>
        </p:nvSpPr>
        <p:spPr>
          <a:xfrm>
            <a:off x="4824360" y="3699000"/>
            <a:ext cx="8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1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下箭头 42013"/>
          <p:cNvSpPr/>
          <p:nvPr/>
        </p:nvSpPr>
        <p:spPr>
          <a:xfrm>
            <a:off x="5148360" y="4708440"/>
            <a:ext cx="144360" cy="289080"/>
          </a:xfrm>
          <a:prstGeom prst="downArrow">
            <a:avLst>
              <a:gd name="adj1" fmla="val 50000"/>
              <a:gd name="adj2" fmla="val 5004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42014"/>
          <p:cNvSpPr/>
          <p:nvPr/>
        </p:nvSpPr>
        <p:spPr>
          <a:xfrm>
            <a:off x="4967280" y="4924440"/>
            <a:ext cx="6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上箭头 42015"/>
          <p:cNvSpPr/>
          <p:nvPr/>
        </p:nvSpPr>
        <p:spPr>
          <a:xfrm>
            <a:off x="2362320" y="4111560"/>
            <a:ext cx="142920" cy="317520"/>
          </a:xfrm>
          <a:prstGeom prst="upArrow">
            <a:avLst>
              <a:gd name="adj1" fmla="val 50000"/>
              <a:gd name="adj2" fmla="val 55521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42016"/>
          <p:cNvSpPr/>
          <p:nvPr/>
        </p:nvSpPr>
        <p:spPr>
          <a:xfrm>
            <a:off x="2195640" y="37180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42017"/>
          <p:cNvSpPr/>
          <p:nvPr/>
        </p:nvSpPr>
        <p:spPr>
          <a:xfrm>
            <a:off x="2195640" y="49244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下箭头 42018"/>
          <p:cNvSpPr/>
          <p:nvPr/>
        </p:nvSpPr>
        <p:spPr>
          <a:xfrm>
            <a:off x="2362320" y="4749840"/>
            <a:ext cx="142920" cy="288720"/>
          </a:xfrm>
          <a:prstGeom prst="downArrow">
            <a:avLst>
              <a:gd name="adj1" fmla="val 50000"/>
              <a:gd name="adj2" fmla="val 50485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42019"/>
          <p:cNvSpPr/>
          <p:nvPr/>
        </p:nvSpPr>
        <p:spPr>
          <a:xfrm>
            <a:off x="7375680" y="4492800"/>
            <a:ext cx="28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（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t 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是正整数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42020"/>
          <p:cNvSpPr/>
          <p:nvPr/>
        </p:nvSpPr>
        <p:spPr>
          <a:xfrm>
            <a:off x="8028000" y="3843360"/>
            <a:ext cx="15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t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/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上箭头 42021"/>
          <p:cNvSpPr/>
          <p:nvPr/>
        </p:nvSpPr>
        <p:spPr>
          <a:xfrm>
            <a:off x="4211640" y="4635360"/>
            <a:ext cx="142920" cy="287640"/>
          </a:xfrm>
          <a:prstGeom prst="upArrow">
            <a:avLst>
              <a:gd name="adj1" fmla="val 50000"/>
              <a:gd name="adj2" fmla="val 50296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下箭头 42022"/>
          <p:cNvSpPr/>
          <p:nvPr/>
        </p:nvSpPr>
        <p:spPr>
          <a:xfrm>
            <a:off x="4211640" y="4132440"/>
            <a:ext cx="144360" cy="236520"/>
          </a:xfrm>
          <a:prstGeom prst="downArrow">
            <a:avLst>
              <a:gd name="adj1" fmla="val 50000"/>
              <a:gd name="adj2" fmla="val 40945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42023"/>
          <p:cNvSpPr/>
          <p:nvPr/>
        </p:nvSpPr>
        <p:spPr>
          <a:xfrm>
            <a:off x="4067280" y="4910040"/>
            <a:ext cx="6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42024"/>
          <p:cNvSpPr/>
          <p:nvPr/>
        </p:nvSpPr>
        <p:spPr>
          <a:xfrm>
            <a:off x="4067280" y="3700440"/>
            <a:ext cx="6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42026"/>
          <p:cNvSpPr/>
          <p:nvPr/>
        </p:nvSpPr>
        <p:spPr>
          <a:xfrm>
            <a:off x="4284720" y="3502080"/>
            <a:ext cx="0" cy="18716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42027"/>
          <p:cNvSpPr/>
          <p:nvPr/>
        </p:nvSpPr>
        <p:spPr>
          <a:xfrm>
            <a:off x="3886200" y="43164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右箭头 42028"/>
          <p:cNvSpPr/>
          <p:nvPr/>
        </p:nvSpPr>
        <p:spPr>
          <a:xfrm>
            <a:off x="179280" y="4006800"/>
            <a:ext cx="4032360" cy="360360"/>
          </a:xfrm>
          <a:prstGeom prst="rightArrow">
            <a:avLst>
              <a:gd name="adj1" fmla="val 49778"/>
              <a:gd name="adj2" fmla="val 166448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右箭头 42029"/>
          <p:cNvSpPr/>
          <p:nvPr/>
        </p:nvSpPr>
        <p:spPr>
          <a:xfrm>
            <a:off x="4284720" y="4708440"/>
            <a:ext cx="3456000" cy="360360"/>
          </a:xfrm>
          <a:prstGeom prst="rightArrow">
            <a:avLst>
              <a:gd name="adj1" fmla="val 50000"/>
              <a:gd name="adj2" fmla="val 147452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42030"/>
          <p:cNvSpPr/>
          <p:nvPr/>
        </p:nvSpPr>
        <p:spPr>
          <a:xfrm>
            <a:off x="250920" y="62244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综合以上的分析，可以发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42031"/>
          <p:cNvSpPr/>
          <p:nvPr/>
        </p:nvSpPr>
        <p:spPr>
          <a:xfrm>
            <a:off x="2362320" y="1198440"/>
            <a:ext cx="724680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                  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时，选择方式一省钱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                  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时，选择方式二省钱；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                   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时，方式一、方式二均可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42032"/>
          <p:cNvSpPr/>
          <p:nvPr/>
        </p:nvSpPr>
        <p:spPr>
          <a:xfrm>
            <a:off x="2649600" y="10540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t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小于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42033"/>
          <p:cNvSpPr/>
          <p:nvPr/>
        </p:nvSpPr>
        <p:spPr>
          <a:xfrm>
            <a:off x="2598840" y="1647720"/>
            <a:ext cx="17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t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大于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42034"/>
          <p:cNvSpPr/>
          <p:nvPr/>
        </p:nvSpPr>
        <p:spPr>
          <a:xfrm>
            <a:off x="2598840" y="22273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t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等于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77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0" dur="770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4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77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770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文本框 28691"/>
          <p:cNvSpPr/>
          <p:nvPr/>
        </p:nvSpPr>
        <p:spPr>
          <a:xfrm>
            <a:off x="468360" y="1468440"/>
            <a:ext cx="81374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回顾问题的解决过程，谈谈你的收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28692"/>
          <p:cNvSpPr/>
          <p:nvPr/>
        </p:nvSpPr>
        <p:spPr>
          <a:xfrm>
            <a:off x="396720" y="2427120"/>
            <a:ext cx="81378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决本题的过程中你觉得最难突破的步骤是哪些？本题中运用了哪些方法突破这些难点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28693"/>
          <p:cNvSpPr/>
          <p:nvPr/>
        </p:nvSpPr>
        <p:spPr>
          <a:xfrm>
            <a:off x="504720" y="4292280"/>
            <a:ext cx="7920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电话计费问题的解决过程中运用一元一次方程解决了什么问题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圆角矩形 31"/>
          <p:cNvSpPr/>
          <p:nvPr/>
        </p:nvSpPr>
        <p:spPr>
          <a:xfrm>
            <a:off x="468360" y="708120"/>
            <a:ext cx="1231920" cy="47304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想一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右箭头 28679"/>
          <p:cNvSpPr/>
          <p:nvPr/>
        </p:nvSpPr>
        <p:spPr>
          <a:xfrm>
            <a:off x="7307280" y="3720960"/>
            <a:ext cx="1225440" cy="289080"/>
          </a:xfrm>
          <a:prstGeom prst="rightArrow">
            <a:avLst>
              <a:gd name="adj1" fmla="val 50000"/>
              <a:gd name="adj2" fmla="val 105938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右箭头 28682"/>
          <p:cNvSpPr/>
          <p:nvPr/>
        </p:nvSpPr>
        <p:spPr>
          <a:xfrm>
            <a:off x="5435640" y="3649680"/>
            <a:ext cx="1295280" cy="287280"/>
          </a:xfrm>
          <a:prstGeom prst="rightArrow">
            <a:avLst>
              <a:gd name="adj1" fmla="val 50000"/>
              <a:gd name="adj2" fmla="val 112678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标注 28684"/>
          <p:cNvSpPr/>
          <p:nvPr/>
        </p:nvSpPr>
        <p:spPr>
          <a:xfrm>
            <a:off x="682560" y="1920960"/>
            <a:ext cx="1511280" cy="647640"/>
          </a:xfrm>
          <a:prstGeom prst="wedgeRectCallout">
            <a:avLst>
              <a:gd name="adj1" fmla="val 108087"/>
              <a:gd name="adj2" fmla="val 149263"/>
            </a:avLst>
          </a:prstGeom>
          <a:solidFill>
            <a:srgbClr val="f1be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列表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标注 28685"/>
          <p:cNvSpPr/>
          <p:nvPr/>
        </p:nvSpPr>
        <p:spPr>
          <a:xfrm>
            <a:off x="77760" y="4944960"/>
            <a:ext cx="1582920" cy="476280"/>
          </a:xfrm>
          <a:prstGeom prst="wedgeRectCallout">
            <a:avLst>
              <a:gd name="adj1" fmla="val -25768"/>
              <a:gd name="adj2" fmla="val -203398"/>
            </a:avLst>
          </a:prstGeom>
          <a:solidFill>
            <a:srgbClr val="f1be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借助数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28688"/>
          <p:cNvSpPr/>
          <p:nvPr/>
        </p:nvSpPr>
        <p:spPr>
          <a:xfrm>
            <a:off x="-281520" y="3360600"/>
            <a:ext cx="911880" cy="792360"/>
          </a:xfrm>
          <a:prstGeom prst="rect">
            <a:avLst/>
          </a:prstGeom>
          <a:solidFill>
            <a:srgbClr val="f9cf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审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右箭头 28689"/>
          <p:cNvSpPr/>
          <p:nvPr/>
        </p:nvSpPr>
        <p:spPr>
          <a:xfrm>
            <a:off x="611280" y="3792600"/>
            <a:ext cx="718920" cy="216000"/>
          </a:xfrm>
          <a:prstGeom prst="rightArrow">
            <a:avLst>
              <a:gd name="adj1" fmla="val 50000"/>
              <a:gd name="adj2" fmla="val 8317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标注 28690"/>
          <p:cNvSpPr/>
          <p:nvPr/>
        </p:nvSpPr>
        <p:spPr>
          <a:xfrm>
            <a:off x="4930920" y="1992240"/>
            <a:ext cx="1800000" cy="504720"/>
          </a:xfrm>
          <a:prstGeom prst="wedgeRectCallout">
            <a:avLst>
              <a:gd name="adj1" fmla="val 118782"/>
              <a:gd name="adj2" fmla="val 203458"/>
            </a:avLst>
          </a:prstGeom>
          <a:solidFill>
            <a:srgbClr val="f1be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类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28694"/>
          <p:cNvSpPr/>
          <p:nvPr/>
        </p:nvSpPr>
        <p:spPr>
          <a:xfrm>
            <a:off x="8124120" y="3216240"/>
            <a:ext cx="911880" cy="1152720"/>
          </a:xfrm>
          <a:prstGeom prst="rect">
            <a:avLst/>
          </a:prstGeom>
          <a:solidFill>
            <a:srgbClr val="f9cf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更优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28695"/>
          <p:cNvSpPr/>
          <p:nvPr/>
        </p:nvSpPr>
        <p:spPr>
          <a:xfrm>
            <a:off x="6377760" y="3144960"/>
            <a:ext cx="911880" cy="1368360"/>
          </a:xfrm>
          <a:prstGeom prst="rect">
            <a:avLst/>
          </a:prstGeom>
          <a:solidFill>
            <a:srgbClr val="f9cf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费用相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28696"/>
          <p:cNvSpPr/>
          <p:nvPr/>
        </p:nvSpPr>
        <p:spPr>
          <a:xfrm>
            <a:off x="4506120" y="3216240"/>
            <a:ext cx="911880" cy="1081080"/>
          </a:xfrm>
          <a:prstGeom prst="rect">
            <a:avLst/>
          </a:prstGeom>
          <a:solidFill>
            <a:srgbClr val="f9cf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列方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右箭头 28697"/>
          <p:cNvSpPr/>
          <p:nvPr/>
        </p:nvSpPr>
        <p:spPr>
          <a:xfrm>
            <a:off x="3635280" y="3792600"/>
            <a:ext cx="1224000" cy="217440"/>
          </a:xfrm>
          <a:prstGeom prst="rightArrow">
            <a:avLst>
              <a:gd name="adj1" fmla="val 50000"/>
              <a:gd name="adj2" fmla="val 140676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28698"/>
          <p:cNvSpPr/>
          <p:nvPr/>
        </p:nvSpPr>
        <p:spPr>
          <a:xfrm>
            <a:off x="2706120" y="2352600"/>
            <a:ext cx="911880" cy="2592360"/>
          </a:xfrm>
          <a:prstGeom prst="rect">
            <a:avLst/>
          </a:prstGeom>
          <a:solidFill>
            <a:srgbClr val="f9cf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用未知数表示费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右箭头 28699"/>
          <p:cNvSpPr/>
          <p:nvPr/>
        </p:nvSpPr>
        <p:spPr>
          <a:xfrm>
            <a:off x="1979640" y="3792600"/>
            <a:ext cx="1079640" cy="216000"/>
          </a:xfrm>
          <a:prstGeom prst="rightArrow">
            <a:avLst>
              <a:gd name="adj1" fmla="val 50000"/>
              <a:gd name="adj2" fmla="val 124958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28700"/>
          <p:cNvSpPr/>
          <p:nvPr/>
        </p:nvSpPr>
        <p:spPr>
          <a:xfrm>
            <a:off x="1050120" y="3216240"/>
            <a:ext cx="911880" cy="1441440"/>
          </a:xfrm>
          <a:prstGeom prst="rect">
            <a:avLst/>
          </a:prstGeom>
          <a:solidFill>
            <a:srgbClr val="f9cf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设未知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形标注 28701"/>
          <p:cNvSpPr/>
          <p:nvPr/>
        </p:nvSpPr>
        <p:spPr>
          <a:xfrm>
            <a:off x="4865760" y="4856040"/>
            <a:ext cx="3168720" cy="1123920"/>
          </a:xfrm>
          <a:prstGeom prst="wedgeEllipseCallout">
            <a:avLst>
              <a:gd name="adj1" fmla="val 66791"/>
              <a:gd name="adj2" fmla="val -9152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何比较两个代数式的大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合 2"/>
          <p:cNvGrpSpPr/>
          <p:nvPr/>
        </p:nvGrpSpPr>
        <p:grpSpPr>
          <a:xfrm>
            <a:off x="6769080" y="695160"/>
            <a:ext cx="2446200" cy="1297080"/>
            <a:chOff x="6769080" y="695160"/>
            <a:chExt cx="2446200" cy="1297080"/>
          </a:xfrm>
        </p:grpSpPr>
        <p:sp>
          <p:nvSpPr>
            <p:cNvPr id="220" name="云形标注 28702"/>
            <p:cNvSpPr/>
            <p:nvPr/>
          </p:nvSpPr>
          <p:spPr>
            <a:xfrm>
              <a:off x="6769080" y="695160"/>
              <a:ext cx="2446200" cy="1297080"/>
            </a:xfrm>
            <a:prstGeom prst="cloudCallout">
              <a:avLst>
                <a:gd name="adj1" fmla="val 28833"/>
                <a:gd name="adj2" fmla="val 138935"/>
              </a:avLst>
            </a:prstGeom>
            <a:solidFill>
              <a:srgbClr val="faa4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文本框 1"/>
            <p:cNvSpPr/>
            <p:nvPr/>
          </p:nvSpPr>
          <p:spPr>
            <a:xfrm>
              <a:off x="6871680" y="928800"/>
              <a:ext cx="209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要找不等关系先找等量关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文本框 1"/>
          <p:cNvSpPr/>
          <p:nvPr/>
        </p:nvSpPr>
        <p:spPr>
          <a:xfrm>
            <a:off x="147600" y="417600"/>
            <a:ext cx="8694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小明和小强为了买同一种火车模型，决定从春节开始攒钱，小明原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以后每月存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；小强原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5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以后每月存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．设两人攒钱的月数为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个）（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为整数）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根据题意，填写下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38280" y="3448080"/>
          <a:ext cx="8083440" cy="2222640"/>
        </p:xfrm>
        <a:graphic>
          <a:graphicData uri="http://schemas.openxmlformats.org/drawingml/2006/table">
            <a:tbl>
              <a:tblPr/>
              <a:tblGrid>
                <a:gridCol w="2232000"/>
                <a:gridCol w="1444680"/>
                <a:gridCol w="1465200"/>
                <a:gridCol w="1280880"/>
                <a:gridCol w="166068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攒钱的月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2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2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2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2e6"/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明攒钱的总数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2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2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2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2e6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强攒钱的总数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2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2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2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2e6"/>
                    </a:solidFill>
                  </a:tcPr>
                </a:tc>
              </a:tr>
            </a:tbl>
          </a:graphicData>
        </a:graphic>
      </p:graphicFrame>
      <p:sp>
        <p:nvSpPr>
          <p:cNvPr id="224" name="文本框 8"/>
          <p:cNvSpPr/>
          <p:nvPr/>
        </p:nvSpPr>
        <p:spPr>
          <a:xfrm>
            <a:off x="3281400" y="505476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9"/>
          <p:cNvSpPr/>
          <p:nvPr/>
        </p:nvSpPr>
        <p:spPr>
          <a:xfrm>
            <a:off x="4621320" y="413712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10"/>
          <p:cNvSpPr/>
          <p:nvPr/>
        </p:nvSpPr>
        <p:spPr>
          <a:xfrm>
            <a:off x="7198200" y="421164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00+50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11"/>
          <p:cNvSpPr/>
          <p:nvPr/>
        </p:nvSpPr>
        <p:spPr>
          <a:xfrm>
            <a:off x="7144560" y="505476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50+60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文本框 3"/>
          <p:cNvSpPr/>
          <p:nvPr/>
        </p:nvSpPr>
        <p:spPr>
          <a:xfrm>
            <a:off x="351000" y="608040"/>
            <a:ext cx="7277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在几个月后小明与小强攒钱的总数相同？此时他们各有多少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1"/>
          <p:cNvSpPr/>
          <p:nvPr/>
        </p:nvSpPr>
        <p:spPr>
          <a:xfrm>
            <a:off x="549360" y="1906560"/>
            <a:ext cx="72691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2)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根据题意，得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00+50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150+60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5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所以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50+60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45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答：在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个月后小明与小强攒钱的总数相同，此时每人有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5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元钱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文本框 4"/>
          <p:cNvSpPr/>
          <p:nvPr/>
        </p:nvSpPr>
        <p:spPr>
          <a:xfrm>
            <a:off x="363600" y="793800"/>
            <a:ext cx="8021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若这种火车模型的价格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8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他们谁能够先买到该模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3"/>
          <p:cNvSpPr/>
          <p:nvPr/>
        </p:nvSpPr>
        <p:spPr>
          <a:xfrm>
            <a:off x="549360" y="1906560"/>
            <a:ext cx="72691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3)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根据题意，由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00+50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78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解得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1.6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故小明在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个月后攒钱的总数超过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78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元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由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50+60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78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解得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=10.5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故小强在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个月后攒钱的总数超过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78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元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所以小强能够先买到该模型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文本框 1"/>
          <p:cNvSpPr/>
          <p:nvPr/>
        </p:nvSpPr>
        <p:spPr>
          <a:xfrm>
            <a:off x="496800" y="1755720"/>
            <a:ext cx="8148600" cy="1544040"/>
          </a:xfrm>
          <a:prstGeom prst="rect">
            <a:avLst/>
          </a:prstGeom>
          <a:noFill/>
          <a:ln w="25560">
            <a:solidFill>
              <a:srgbClr val="cc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方法总结：</a:t>
            </a:r>
            <a:r>
              <a:rPr b="0" lang="zh-CN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解决此类问题的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关键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能够根据已知条件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找到合适的分段点，然后建立方程模型分类讨论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而得出整体选择方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圆角矩形 31"/>
          <p:cNvSpPr/>
          <p:nvPr/>
        </p:nvSpPr>
        <p:spPr>
          <a:xfrm>
            <a:off x="880920" y="824040"/>
            <a:ext cx="1257480" cy="50004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41987"/>
          <p:cNvSpPr/>
          <p:nvPr/>
        </p:nvSpPr>
        <p:spPr>
          <a:xfrm>
            <a:off x="1023840" y="1609560"/>
            <a:ext cx="65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移动公司推出两种智能手机上网流量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798480" y="2468520"/>
          <a:ext cx="7135920" cy="2308320"/>
        </p:xfrm>
        <a:graphic>
          <a:graphicData uri="http://schemas.openxmlformats.org/drawingml/2006/table">
            <a:tbl>
              <a:tblPr/>
              <a:tblGrid>
                <a:gridCol w="1098720"/>
                <a:gridCol w="1641240"/>
                <a:gridCol w="2009880"/>
                <a:gridCol w="2386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5f4ed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f5f4ed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cf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月使用费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元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f5f4ed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cf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含上网流量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(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f5f4ed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cf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流量超出部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元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f5f4ed"/>
                      </a:solidFill>
                    </a:lnR>
                    <a:lnT w="5760">
                      <a:solidFill>
                        <a:srgbClr val="f5f4ed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cfbf9"/>
                    </a:solidFill>
                  </a:tcPr>
                </a:tc>
              </a:tr>
              <a:tr h="71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5f4ed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f5f4ed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B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5f4ed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f5f4ed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f5f4ed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f5f4ed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f5f4ed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f5f4ed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36" name="文本框 1"/>
          <p:cNvSpPr/>
          <p:nvPr/>
        </p:nvSpPr>
        <p:spPr>
          <a:xfrm>
            <a:off x="1081080" y="5119560"/>
            <a:ext cx="68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何选择流量包更划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文本框 1"/>
          <p:cNvSpPr/>
          <p:nvPr/>
        </p:nvSpPr>
        <p:spPr>
          <a:xfrm>
            <a:off x="166680" y="684360"/>
            <a:ext cx="841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设一个月内使用的流量为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根据题意，当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在不同范围内取值时，两种流量包计费如下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19040" y="1816200"/>
          <a:ext cx="8317080" cy="2590560"/>
        </p:xfrm>
        <a:graphic>
          <a:graphicData uri="http://schemas.openxmlformats.org/drawingml/2006/table">
            <a:tbl>
              <a:tblPr/>
              <a:tblGrid>
                <a:gridCol w="3272040"/>
                <a:gridCol w="2522520"/>
                <a:gridCol w="2522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使用流量 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(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种计费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元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B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种计费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元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小于等于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3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大于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320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且小于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5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30+0.2(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32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等于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5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大于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5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30+0.2(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32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50+0.1(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55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文本框 4"/>
          <p:cNvSpPr/>
          <p:nvPr/>
        </p:nvSpPr>
        <p:spPr>
          <a:xfrm>
            <a:off x="581040" y="4641840"/>
            <a:ext cx="80773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1)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≤ 320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流量包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计费少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3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元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2)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2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＜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＜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20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流量包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计费少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＜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元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3)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42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两种流量包计费相等，都是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元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56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57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>
                  <a:gd name="textAreaLeft" fmla="*/ 0 w 88920"/>
                  <a:gd name="textAreaRight" fmla="*/ 88920 w 8892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学习目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矩形 11"/>
          <p:cNvSpPr/>
          <p:nvPr/>
        </p:nvSpPr>
        <p:spPr>
          <a:xfrm>
            <a:off x="539640" y="1990800"/>
            <a:ext cx="7920000" cy="31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体会分类思想和方程思想在解决问题中的作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能够根据已知条件选择分类关键点对“电话计费问题”进行整体分析，从而得出整体选择方案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重点、难点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进一步深化对数学建模方法的体验，增强应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程模型解决问题的意识和能力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(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重点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文本框 4"/>
          <p:cNvSpPr/>
          <p:nvPr/>
        </p:nvSpPr>
        <p:spPr>
          <a:xfrm>
            <a:off x="488880" y="838080"/>
            <a:ext cx="826128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4)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2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＜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＜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50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流量包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计费少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5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元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5)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550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流量包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计费少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5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元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6)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＞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50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流量包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计费少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综上所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月使用流量小于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20 M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选择流量包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划算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月使用流量等于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20 M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两种流量包费用一样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月使用流量大于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20 M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选择流量包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划算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文本框 1"/>
          <p:cNvSpPr/>
          <p:nvPr/>
        </p:nvSpPr>
        <p:spPr>
          <a:xfrm>
            <a:off x="331920" y="739800"/>
            <a:ext cx="845640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小明所在城市的“阶梯水价”收费办法是：每户用水不超过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吨，每吨水费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；超过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吨，超过部分每吨加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小明家今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月份用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吨，共交水费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根据题意列出关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方程正确的是（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4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4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4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×2=4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46c0a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2"/>
          <p:cNvSpPr/>
          <p:nvPr/>
        </p:nvSpPr>
        <p:spPr>
          <a:xfrm>
            <a:off x="7532640" y="2666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3"/>
          <p:cNvSpPr/>
          <p:nvPr/>
        </p:nvSpPr>
        <p:spPr>
          <a:xfrm>
            <a:off x="461880" y="839880"/>
            <a:ext cx="8145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2.</a:t>
            </a: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某市为鼓励居民节约用水，对自来水用户按分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计费方式收取水费：若每户每月用水不超过 </a:t>
            </a: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7m</a:t>
            </a:r>
            <a:r>
              <a:rPr b="0" lang="en-US" sz="2800" spc="-1" strike="noStrike" baseline="30000">
                <a:solidFill>
                  <a:srgbClr val="1f497d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     </a:t>
            </a:r>
            <a:r>
              <a:rPr b="0" lang="zh-CN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则按 </a:t>
            </a: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2 </a:t>
            </a:r>
            <a:r>
              <a:rPr b="0" lang="zh-CN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元</a:t>
            </a: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/m</a:t>
            </a:r>
            <a:r>
              <a:rPr b="0" lang="en-US" sz="2800" spc="-1" strike="noStrike" baseline="30000">
                <a:solidFill>
                  <a:srgbClr val="1f497d"/>
                </a:solidFill>
                <a:latin typeface="Times New Roman"/>
                <a:ea typeface="黑体"/>
              </a:rPr>
              <a:t>3 </a:t>
            </a:r>
            <a:r>
              <a:rPr b="0" lang="zh-CN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收费；若每户每月用水超过 </a:t>
            </a: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7 m</a:t>
            </a:r>
            <a:r>
              <a:rPr b="0" lang="en-US" sz="2800" spc="-1" strike="noStrike" baseline="30000">
                <a:solidFill>
                  <a:srgbClr val="1f497d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     </a:t>
            </a:r>
            <a:r>
              <a:rPr b="0" lang="zh-CN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则超过的部分按 </a:t>
            </a: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元</a:t>
            </a: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/m</a:t>
            </a:r>
            <a:r>
              <a:rPr b="0" lang="en-US" sz="2800" spc="-1" strike="noStrike" baseline="30000">
                <a:solidFill>
                  <a:srgbClr val="1f497d"/>
                </a:solidFill>
                <a:latin typeface="Times New Roman"/>
                <a:ea typeface="黑体"/>
              </a:rPr>
              <a:t>3 </a:t>
            </a:r>
            <a:r>
              <a:rPr b="0" lang="zh-CN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收费</a:t>
            </a: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. </a:t>
            </a:r>
            <a:r>
              <a:rPr b="0" lang="zh-CN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如果某居民户去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     </a:t>
            </a: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12</a:t>
            </a:r>
            <a:r>
              <a:rPr b="0" lang="zh-CN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月缴纳了 </a:t>
            </a: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53 </a:t>
            </a:r>
            <a:r>
              <a:rPr b="0" lang="zh-CN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元水费，那么这户居民去年</a:t>
            </a: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12</a:t>
            </a:r>
            <a:r>
              <a:rPr b="0" lang="zh-CN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     </a:t>
            </a:r>
            <a:r>
              <a:rPr b="0" lang="zh-CN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的用水量为</a:t>
            </a: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_______m</a:t>
            </a:r>
            <a:r>
              <a:rPr b="0" lang="en-US" sz="2800" spc="-1" strike="noStrike" baseline="30000">
                <a:solidFill>
                  <a:srgbClr val="1f497d"/>
                </a:solidFill>
                <a:latin typeface="Times New Roman"/>
                <a:ea typeface="黑体"/>
              </a:rPr>
              <a:t>3</a:t>
            </a: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2"/>
          <p:cNvSpPr/>
          <p:nvPr/>
        </p:nvSpPr>
        <p:spPr>
          <a:xfrm>
            <a:off x="3072600" y="414648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文本框 99"/>
          <p:cNvSpPr/>
          <p:nvPr/>
        </p:nvSpPr>
        <p:spPr>
          <a:xfrm>
            <a:off x="385920" y="888840"/>
            <a:ext cx="8450280" cy="35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某市生活拨号上网有两种收费方式，用户可以任选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其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  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计时制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0.05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钟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包月制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0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限一部个人住宅电话上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.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此外，两种上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式都得加收通信费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0.0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钟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某用户某月上网时间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小时，请分别写出两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收费方式下该用户应该支付的费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你认为采用哪种方式比较合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2"/>
          <p:cNvSpPr/>
          <p:nvPr/>
        </p:nvSpPr>
        <p:spPr>
          <a:xfrm>
            <a:off x="351000" y="4610160"/>
            <a:ext cx="8126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1)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采用计时制：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0.05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0.02)×60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.2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采用包月制：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6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0.02×60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6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.2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文本框 1"/>
          <p:cNvSpPr/>
          <p:nvPr/>
        </p:nvSpPr>
        <p:spPr>
          <a:xfrm>
            <a:off x="279360" y="798480"/>
            <a:ext cx="8367840" cy="26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2)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由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.2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6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.2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得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0.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又由题意可知，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网时间越长，采用包月制越合算．所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0 &lt;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&lt; 20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采用计时制合算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0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采用两种方式费用相同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&gt; 20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采用包月制合算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60"/>
                            </p:stCondLst>
                            <p:childTnLst>
                              <p:par>
                                <p:cTn id="5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1"/>
          <p:cNvSpPr/>
          <p:nvPr/>
        </p:nvSpPr>
        <p:spPr>
          <a:xfrm>
            <a:off x="431640" y="839880"/>
            <a:ext cx="83156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纸在某复印社复印文件，复印页数不超过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时每页收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0.1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；复印页数超过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超过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每页收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0.0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某图书馆复印同样的文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不论复印多少页，每页收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0.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问：如何根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复印的页数选择复印的地点使总价格比较便宜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复印的页数不为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506520" y="1441440"/>
          <a:ext cx="8262720" cy="2390760"/>
        </p:xfrm>
        <a:graphic>
          <a:graphicData uri="http://schemas.openxmlformats.org/drawingml/2006/table">
            <a:tbl>
              <a:tblPr/>
              <a:tblGrid>
                <a:gridCol w="1784160"/>
                <a:gridCol w="3200400"/>
                <a:gridCol w="3278160"/>
              </a:tblGrid>
              <a:tr h="82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5320"/>
                          <a:tab algn="l" pos="1343160"/>
                          <a:tab algn="l" pos="1790640"/>
                          <a:tab algn="l" pos="2238480"/>
                          <a:tab algn="l" pos="2685960"/>
                          <a:tab algn="l" pos="3133800"/>
                          <a:tab algn="l" pos="3581280"/>
                          <a:tab algn="l" pos="4029120"/>
                          <a:tab algn="l" pos="4476600"/>
                          <a:tab algn="l" pos="4924440"/>
                          <a:tab algn="l" pos="5372280"/>
                          <a:tab algn="l" pos="5819760"/>
                          <a:tab algn="l" pos="6267600"/>
                          <a:tab algn="l" pos="6715080"/>
                          <a:tab algn="l" pos="7162920"/>
                          <a:tab algn="l" pos="7610400"/>
                          <a:tab algn="l" pos="8058240"/>
                          <a:tab algn="l" pos="8505720"/>
                          <a:tab algn="l" pos="895356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复印页数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5320"/>
                          <a:tab algn="l" pos="1343160"/>
                          <a:tab algn="l" pos="1790640"/>
                          <a:tab algn="l" pos="2238480"/>
                          <a:tab algn="l" pos="2685960"/>
                          <a:tab algn="l" pos="3133800"/>
                          <a:tab algn="l" pos="3581280"/>
                          <a:tab algn="l" pos="4029120"/>
                          <a:tab algn="l" pos="4476600"/>
                          <a:tab algn="l" pos="4924440"/>
                          <a:tab algn="l" pos="5372280"/>
                          <a:tab algn="l" pos="5819760"/>
                          <a:tab algn="l" pos="6267600"/>
                          <a:tab algn="l" pos="6715080"/>
                          <a:tab algn="l" pos="7162920"/>
                          <a:tab algn="l" pos="7610400"/>
                          <a:tab algn="l" pos="8058240"/>
                          <a:tab algn="l" pos="8505720"/>
                          <a:tab algn="l" pos="895356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复印社复印费用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5320"/>
                          <a:tab algn="l" pos="1343160"/>
                          <a:tab algn="l" pos="1790640"/>
                          <a:tab algn="l" pos="2238480"/>
                          <a:tab algn="l" pos="2685960"/>
                          <a:tab algn="l" pos="3133800"/>
                          <a:tab algn="l" pos="3581280"/>
                          <a:tab algn="l" pos="4029120"/>
                          <a:tab algn="l" pos="4476600"/>
                          <a:tab algn="l" pos="4924440"/>
                          <a:tab algn="l" pos="5372280"/>
                          <a:tab algn="l" pos="5819760"/>
                          <a:tab algn="l" pos="6267600"/>
                          <a:tab algn="l" pos="6715080"/>
                          <a:tab algn="l" pos="7162920"/>
                          <a:tab algn="l" pos="7610400"/>
                          <a:tab algn="l" pos="8058240"/>
                          <a:tab algn="l" pos="8505720"/>
                          <a:tab algn="l" pos="895356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图书馆复印费用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5320"/>
                          <a:tab algn="l" pos="1343160"/>
                          <a:tab algn="l" pos="1790640"/>
                          <a:tab algn="l" pos="2238480"/>
                          <a:tab algn="l" pos="2685960"/>
                          <a:tab algn="l" pos="3133800"/>
                          <a:tab algn="l" pos="3581280"/>
                          <a:tab algn="l" pos="4029120"/>
                          <a:tab algn="l" pos="4476600"/>
                          <a:tab algn="l" pos="4924440"/>
                          <a:tab algn="l" pos="5372280"/>
                          <a:tab algn="l" pos="5819760"/>
                          <a:tab algn="l" pos="6267600"/>
                          <a:tab algn="l" pos="6715080"/>
                          <a:tab algn="l" pos="7162920"/>
                          <a:tab algn="l" pos="7610400"/>
                          <a:tab algn="l" pos="8058240"/>
                          <a:tab algn="l" pos="8505720"/>
                          <a:tab algn="l" pos="895356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x 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小于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5320"/>
                          <a:tab algn="l" pos="1343160"/>
                          <a:tab algn="l" pos="1790640"/>
                          <a:tab algn="l" pos="2238480"/>
                          <a:tab algn="l" pos="2685960"/>
                          <a:tab algn="l" pos="3133800"/>
                          <a:tab algn="l" pos="3581280"/>
                          <a:tab algn="l" pos="4029120"/>
                          <a:tab algn="l" pos="4476600"/>
                          <a:tab algn="l" pos="4924440"/>
                          <a:tab algn="l" pos="5372280"/>
                          <a:tab algn="l" pos="5819760"/>
                          <a:tab algn="l" pos="6267600"/>
                          <a:tab algn="l" pos="6715080"/>
                          <a:tab algn="l" pos="7162920"/>
                          <a:tab algn="l" pos="7610400"/>
                          <a:tab algn="l" pos="8058240"/>
                          <a:tab algn="l" pos="8505720"/>
                          <a:tab algn="l" pos="895356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0.12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5320"/>
                          <a:tab algn="l" pos="1343160"/>
                          <a:tab algn="l" pos="1790640"/>
                          <a:tab algn="l" pos="2238480"/>
                          <a:tab algn="l" pos="2685960"/>
                          <a:tab algn="l" pos="3133800"/>
                          <a:tab algn="l" pos="3581280"/>
                          <a:tab algn="l" pos="4029120"/>
                          <a:tab algn="l" pos="4476600"/>
                          <a:tab algn="l" pos="4924440"/>
                          <a:tab algn="l" pos="5372280"/>
                          <a:tab algn="l" pos="5819760"/>
                          <a:tab algn="l" pos="6267600"/>
                          <a:tab algn="l" pos="6715080"/>
                          <a:tab algn="l" pos="7162920"/>
                          <a:tab algn="l" pos="7610400"/>
                          <a:tab algn="l" pos="8058240"/>
                          <a:tab algn="l" pos="8505720"/>
                          <a:tab algn="l" pos="895356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0.1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5320"/>
                          <a:tab algn="l" pos="1343160"/>
                          <a:tab algn="l" pos="1790640"/>
                          <a:tab algn="l" pos="2238480"/>
                          <a:tab algn="l" pos="2685960"/>
                          <a:tab algn="l" pos="3133800"/>
                          <a:tab algn="l" pos="3581280"/>
                          <a:tab algn="l" pos="4029120"/>
                          <a:tab algn="l" pos="4476600"/>
                          <a:tab algn="l" pos="4924440"/>
                          <a:tab algn="l" pos="5372280"/>
                          <a:tab algn="l" pos="5819760"/>
                          <a:tab algn="l" pos="6267600"/>
                          <a:tab algn="l" pos="6715080"/>
                          <a:tab algn="l" pos="7162920"/>
                          <a:tab algn="l" pos="7610400"/>
                          <a:tab algn="l" pos="8058240"/>
                          <a:tab algn="l" pos="8505720"/>
                          <a:tab algn="l" pos="895356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x 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等于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5320"/>
                          <a:tab algn="l" pos="1343160"/>
                          <a:tab algn="l" pos="1790640"/>
                          <a:tab algn="l" pos="2238480"/>
                          <a:tab algn="l" pos="2685960"/>
                          <a:tab algn="l" pos="3133800"/>
                          <a:tab algn="l" pos="3581280"/>
                          <a:tab algn="l" pos="4029120"/>
                          <a:tab algn="l" pos="4476600"/>
                          <a:tab algn="l" pos="4924440"/>
                          <a:tab algn="l" pos="5372280"/>
                          <a:tab algn="l" pos="5819760"/>
                          <a:tab algn="l" pos="6267600"/>
                          <a:tab algn="l" pos="6715080"/>
                          <a:tab algn="l" pos="7162920"/>
                          <a:tab algn="l" pos="7610400"/>
                          <a:tab algn="l" pos="8058240"/>
                          <a:tab algn="l" pos="8505720"/>
                          <a:tab algn="l" pos="895356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0.12×20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＝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5320"/>
                          <a:tab algn="l" pos="1343160"/>
                          <a:tab algn="l" pos="1790640"/>
                          <a:tab algn="l" pos="2238480"/>
                          <a:tab algn="l" pos="2685960"/>
                          <a:tab algn="l" pos="3133800"/>
                          <a:tab algn="l" pos="3581280"/>
                          <a:tab algn="l" pos="4029120"/>
                          <a:tab algn="l" pos="4476600"/>
                          <a:tab algn="l" pos="4924440"/>
                          <a:tab algn="l" pos="5372280"/>
                          <a:tab algn="l" pos="5819760"/>
                          <a:tab algn="l" pos="6267600"/>
                          <a:tab algn="l" pos="6715080"/>
                          <a:tab algn="l" pos="7162920"/>
                          <a:tab algn="l" pos="7610400"/>
                          <a:tab algn="l" pos="8058240"/>
                          <a:tab algn="l" pos="8505720"/>
                          <a:tab algn="l" pos="895356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0.1×20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＝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5320"/>
                          <a:tab algn="l" pos="1343160"/>
                          <a:tab algn="l" pos="1790640"/>
                          <a:tab algn="l" pos="2238480"/>
                          <a:tab algn="l" pos="2685960"/>
                          <a:tab algn="l" pos="3133800"/>
                          <a:tab algn="l" pos="3581280"/>
                          <a:tab algn="l" pos="4029120"/>
                          <a:tab algn="l" pos="4476600"/>
                          <a:tab algn="l" pos="4924440"/>
                          <a:tab algn="l" pos="5372280"/>
                          <a:tab algn="l" pos="5819760"/>
                          <a:tab algn="l" pos="6267600"/>
                          <a:tab algn="l" pos="6715080"/>
                          <a:tab algn="l" pos="7162920"/>
                          <a:tab algn="l" pos="7610400"/>
                          <a:tab algn="l" pos="8058240"/>
                          <a:tab algn="l" pos="8505720"/>
                          <a:tab algn="l" pos="895356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x 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大于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5320"/>
                          <a:tab algn="l" pos="1343160"/>
                          <a:tab algn="l" pos="1790640"/>
                          <a:tab algn="l" pos="2238480"/>
                          <a:tab algn="l" pos="2685960"/>
                          <a:tab algn="l" pos="3133800"/>
                          <a:tab algn="l" pos="3581280"/>
                          <a:tab algn="l" pos="4029120"/>
                          <a:tab algn="l" pos="4476600"/>
                          <a:tab algn="l" pos="4924440"/>
                          <a:tab algn="l" pos="5372280"/>
                          <a:tab algn="l" pos="5819760"/>
                          <a:tab algn="l" pos="6267600"/>
                          <a:tab algn="l" pos="6715080"/>
                          <a:tab algn="l" pos="7162920"/>
                          <a:tab algn="l" pos="7610400"/>
                          <a:tab algn="l" pos="8058240"/>
                          <a:tab algn="l" pos="8505720"/>
                          <a:tab algn="l" pos="895356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2.4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＋</a:t>
                      </a: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0.09(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2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5320"/>
                          <a:tab algn="l" pos="1343160"/>
                          <a:tab algn="l" pos="1790640"/>
                          <a:tab algn="l" pos="2238480"/>
                          <a:tab algn="l" pos="2685960"/>
                          <a:tab algn="l" pos="3133800"/>
                          <a:tab algn="l" pos="3581280"/>
                          <a:tab algn="l" pos="4029120"/>
                          <a:tab algn="l" pos="4476600"/>
                          <a:tab algn="l" pos="4924440"/>
                          <a:tab algn="l" pos="5372280"/>
                          <a:tab algn="l" pos="5819760"/>
                          <a:tab algn="l" pos="6267600"/>
                          <a:tab algn="l" pos="6715080"/>
                          <a:tab algn="l" pos="7162920"/>
                          <a:tab algn="l" pos="7610400"/>
                          <a:tab algn="l" pos="8058240"/>
                          <a:tab algn="l" pos="8505720"/>
                          <a:tab algn="l" pos="895356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0.1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Text Box 65"/>
          <p:cNvSpPr/>
          <p:nvPr/>
        </p:nvSpPr>
        <p:spPr>
          <a:xfrm>
            <a:off x="787320" y="711360"/>
            <a:ext cx="66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设复印页数为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依题意，列表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6"/>
          <p:cNvSpPr/>
          <p:nvPr/>
        </p:nvSpPr>
        <p:spPr>
          <a:xfrm>
            <a:off x="506520" y="4024440"/>
            <a:ext cx="85899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1)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＜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0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0.12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大于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0.1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恒成立，图书馆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格便宜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2)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20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图书馆价格便宜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5"/>
          <p:cNvSpPr/>
          <p:nvPr/>
        </p:nvSpPr>
        <p:spPr>
          <a:xfrm>
            <a:off x="515880" y="711360"/>
            <a:ext cx="8217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3)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大于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依题意得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   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.4+0.09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0)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0.1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                               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6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所以，当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大于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且小于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6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图书馆价格便宜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等于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6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两者价格相同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大于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6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复印社价格便宜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7"/>
          <p:cNvSpPr/>
          <p:nvPr/>
        </p:nvSpPr>
        <p:spPr>
          <a:xfrm>
            <a:off x="825480" y="4711680"/>
            <a:ext cx="77472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综上所述：当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小于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6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页时，图书馆价格便宜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等于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6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两者价格相同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大于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6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复印社价格便宜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65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65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2.5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9" dur="65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0" dur="65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65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2.5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65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65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65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8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文本框 1"/>
          <p:cNvSpPr/>
          <p:nvPr/>
        </p:nvSpPr>
        <p:spPr>
          <a:xfrm>
            <a:off x="281160" y="654120"/>
            <a:ext cx="8491320" cy="34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小明可以到甲或乙商店购买练习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两商店的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价都是每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甲商店的优惠方法是：购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以上时，从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本开始按标价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0%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出售；乙商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优惠方法是：从第一本开始就按标价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80%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出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小明要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本时，到哪家商店购买省钱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买多少本时，到两个商店花的钱一样多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小明现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元钱，最多可买多少本练习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1"/>
          <p:cNvSpPr/>
          <p:nvPr/>
        </p:nvSpPr>
        <p:spPr>
          <a:xfrm>
            <a:off x="399960" y="4376880"/>
            <a:ext cx="81565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案：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1)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小明要买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0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本时，到乙家商店购买省钱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2)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买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0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本时，到两个商店花的钱一样多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3)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小明现有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4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元钱，最多可买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0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本练习本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46c0a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11265"/>
          <p:cNvSpPr/>
          <p:nvPr/>
        </p:nvSpPr>
        <p:spPr>
          <a:xfrm>
            <a:off x="546120" y="1417680"/>
            <a:ext cx="7912080" cy="28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1.</a:t>
            </a: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解决电话计费问题需要明确</a:t>
            </a: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“</a:t>
            </a:r>
            <a:r>
              <a:rPr b="0" lang="zh-CN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哪种计费方式更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钱</a:t>
            </a: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”</a:t>
            </a:r>
            <a:r>
              <a:rPr b="0" lang="zh-CN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与</a:t>
            </a: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“</a:t>
            </a:r>
            <a:r>
              <a:rPr b="0" lang="zh-CN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主叫时间</a:t>
            </a: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”</a:t>
            </a:r>
            <a:r>
              <a:rPr b="0" lang="zh-CN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有关</a:t>
            </a: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2.</a:t>
            </a: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1f497d"/>
                </a:solidFill>
                <a:latin typeface="Times New Roman"/>
                <a:ea typeface="黑体"/>
              </a:rPr>
              <a:t>此类问题的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关键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能够根据已知条件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找到合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分段点，然后建立方程模型分类讨论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得出整体选择方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46c0a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6147"/>
          <p:cNvGrpSpPr/>
          <p:nvPr/>
        </p:nvGrpSpPr>
        <p:grpSpPr>
          <a:xfrm>
            <a:off x="325440" y="246240"/>
            <a:ext cx="2445120" cy="808200"/>
            <a:chOff x="325440" y="246240"/>
            <a:chExt cx="2445120" cy="808200"/>
          </a:xfrm>
        </p:grpSpPr>
        <p:sp>
          <p:nvSpPr>
            <p:cNvPr id="63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>
                <a:gd name="textAreaLeft" fmla="*/ 0 w 1672560"/>
                <a:gd name="textAreaRight" fmla="*/ 1672920 w 1672560"/>
                <a:gd name="textAreaTop" fmla="*/ 0 h 762480"/>
                <a:gd name="textAreaBottom" fmla="*/ 762840 h 762480"/>
              </a:gdLst>
              <a:ahLst/>
              <a:rect l="textAreaLeft" t="textAreaTop" r="textAreaRight" b="textAreaBottom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>
                <a:gd name="textAreaLeft" fmla="*/ 0 w 524160"/>
                <a:gd name="textAreaRight" fmla="*/ 524520 w 52416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文本框 6151"/>
            <p:cNvSpPr/>
            <p:nvPr/>
          </p:nvSpPr>
          <p:spPr>
            <a:xfrm>
              <a:off x="1309680" y="5202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电话计费问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f81bd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圆角矩形 31"/>
          <p:cNvSpPr/>
          <p:nvPr/>
        </p:nvSpPr>
        <p:spPr>
          <a:xfrm>
            <a:off x="649440" y="1241280"/>
            <a:ext cx="1608120" cy="50184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互动探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1"/>
          <p:cNvSpPr/>
          <p:nvPr/>
        </p:nvSpPr>
        <p:spPr>
          <a:xfrm>
            <a:off x="406440" y="19144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6c0a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下表中有两种移动电话计费方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00"/>
          <p:cNvGrpSpPr/>
          <p:nvPr/>
        </p:nvGrpSpPr>
        <p:grpSpPr>
          <a:xfrm>
            <a:off x="863640" y="2624040"/>
            <a:ext cx="7367040" cy="2782800"/>
            <a:chOff x="863640" y="2624040"/>
            <a:chExt cx="7367040" cy="2782800"/>
          </a:xfrm>
        </p:grpSpPr>
        <p:sp>
          <p:nvSpPr>
            <p:cNvPr id="71" name="Rectangle 73"/>
            <p:cNvSpPr/>
            <p:nvPr/>
          </p:nvSpPr>
          <p:spPr>
            <a:xfrm>
              <a:off x="7273440" y="4621680"/>
              <a:ext cx="957240" cy="7851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1432"/>
                  </a:solidFill>
                  <a:latin typeface="Times New Roman"/>
                  <a:ea typeface="黑体"/>
                </a:rPr>
                <a:t>免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5430240" y="4621680"/>
              <a:ext cx="1843200" cy="7851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1432"/>
                  </a:solidFill>
                  <a:latin typeface="Times New Roman"/>
                  <a:ea typeface="黑体"/>
                </a:rPr>
                <a:t>0.1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3731760" y="4621680"/>
              <a:ext cx="1698120" cy="7851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1432"/>
                  </a:solidFill>
                  <a:latin typeface="Times New Roman"/>
                  <a:ea typeface="黑体"/>
                </a:rPr>
                <a:t>3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76"/>
            <p:cNvSpPr/>
            <p:nvPr/>
          </p:nvSpPr>
          <p:spPr>
            <a:xfrm>
              <a:off x="2257560" y="4621680"/>
              <a:ext cx="1474200" cy="7851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8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77"/>
            <p:cNvSpPr/>
            <p:nvPr/>
          </p:nvSpPr>
          <p:spPr>
            <a:xfrm>
              <a:off x="863640" y="4621680"/>
              <a:ext cx="1393920" cy="7851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1432"/>
                  </a:solidFill>
                  <a:latin typeface="Times New Roman"/>
                  <a:ea typeface="黑体"/>
                </a:rPr>
                <a:t>方式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78"/>
            <p:cNvSpPr/>
            <p:nvPr/>
          </p:nvSpPr>
          <p:spPr>
            <a:xfrm>
              <a:off x="7273440" y="3794400"/>
              <a:ext cx="957240" cy="827280"/>
            </a:xfrm>
            <a:prstGeom prst="rect">
              <a:avLst/>
            </a:prstGeom>
            <a:solidFill>
              <a:srgbClr val="ebd5f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1432"/>
                  </a:solidFill>
                  <a:latin typeface="Times New Roman"/>
                  <a:ea typeface="黑体"/>
                </a:rPr>
                <a:t>免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79"/>
            <p:cNvSpPr/>
            <p:nvPr/>
          </p:nvSpPr>
          <p:spPr>
            <a:xfrm>
              <a:off x="5430240" y="3794400"/>
              <a:ext cx="1843200" cy="827280"/>
            </a:xfrm>
            <a:prstGeom prst="rect">
              <a:avLst/>
            </a:prstGeom>
            <a:solidFill>
              <a:srgbClr val="ebd5f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1432"/>
                  </a:solidFill>
                  <a:latin typeface="Times New Roman"/>
                  <a:ea typeface="黑体"/>
                </a:rPr>
                <a:t>0.2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80"/>
            <p:cNvSpPr/>
            <p:nvPr/>
          </p:nvSpPr>
          <p:spPr>
            <a:xfrm>
              <a:off x="3731760" y="3794400"/>
              <a:ext cx="1698120" cy="827280"/>
            </a:xfrm>
            <a:prstGeom prst="rect">
              <a:avLst/>
            </a:prstGeom>
            <a:solidFill>
              <a:srgbClr val="ebd5f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1432"/>
                  </a:solidFill>
                  <a:latin typeface="Times New Roman"/>
                  <a:ea typeface="黑体"/>
                </a:rPr>
                <a:t>1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81"/>
            <p:cNvSpPr/>
            <p:nvPr/>
          </p:nvSpPr>
          <p:spPr>
            <a:xfrm>
              <a:off x="2257560" y="3794400"/>
              <a:ext cx="1474200" cy="827280"/>
            </a:xfrm>
            <a:prstGeom prst="rect">
              <a:avLst/>
            </a:prstGeom>
            <a:solidFill>
              <a:srgbClr val="ebd5f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82"/>
            <p:cNvSpPr/>
            <p:nvPr/>
          </p:nvSpPr>
          <p:spPr>
            <a:xfrm>
              <a:off x="863640" y="3794400"/>
              <a:ext cx="1393920" cy="827280"/>
            </a:xfrm>
            <a:prstGeom prst="rect">
              <a:avLst/>
            </a:prstGeom>
            <a:solidFill>
              <a:srgbClr val="ebd5f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1432"/>
                  </a:solidFill>
                  <a:latin typeface="Times New Roman"/>
                  <a:ea typeface="黑体"/>
                </a:rPr>
                <a:t>方式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83"/>
            <p:cNvSpPr/>
            <p:nvPr/>
          </p:nvSpPr>
          <p:spPr>
            <a:xfrm>
              <a:off x="7273440" y="2624040"/>
              <a:ext cx="957240" cy="1170360"/>
            </a:xfrm>
            <a:prstGeom prst="rect">
              <a:avLst/>
            </a:prstGeom>
            <a:solidFill>
              <a:srgbClr val="e4e4e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被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84"/>
            <p:cNvSpPr/>
            <p:nvPr/>
          </p:nvSpPr>
          <p:spPr>
            <a:xfrm>
              <a:off x="5430240" y="2624040"/>
              <a:ext cx="1843200" cy="1170360"/>
            </a:xfrm>
            <a:prstGeom prst="rect">
              <a:avLst/>
            </a:prstGeom>
            <a:solidFill>
              <a:srgbClr val="e4e4e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主叫超时费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/(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元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/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分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85"/>
            <p:cNvSpPr/>
            <p:nvPr/>
          </p:nvSpPr>
          <p:spPr>
            <a:xfrm>
              <a:off x="3731760" y="2624040"/>
              <a:ext cx="1698120" cy="1170360"/>
            </a:xfrm>
            <a:prstGeom prst="rect">
              <a:avLst/>
            </a:prstGeom>
            <a:solidFill>
              <a:srgbClr val="e4e4e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主叫限定时间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/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2257560" y="2624040"/>
              <a:ext cx="1474200" cy="1170360"/>
            </a:xfrm>
            <a:prstGeom prst="rect">
              <a:avLst/>
            </a:prstGeom>
            <a:solidFill>
              <a:srgbClr val="e4e4e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月使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费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/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863640" y="2624040"/>
              <a:ext cx="1393920" cy="1170360"/>
            </a:xfrm>
            <a:prstGeom prst="rect">
              <a:avLst/>
            </a:prstGeom>
            <a:solidFill>
              <a:srgbClr val="e4e4e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矩形 26"/>
          <p:cNvSpPr/>
          <p:nvPr/>
        </p:nvSpPr>
        <p:spPr>
          <a:xfrm>
            <a:off x="2150280" y="580536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你了解表格中这些数字的含义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905040" y="2098800"/>
            <a:ext cx="73278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46c0a"/>
                </a:solidFill>
                <a:latin typeface="黑体"/>
                <a:ea typeface="黑体"/>
              </a:rPr>
              <a:t>想一想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你觉得哪种计费方式更省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填填下面的表格，你有什么发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61880" y="3630600"/>
          <a:ext cx="8232840" cy="1554120"/>
        </p:xfrm>
        <a:graphic>
          <a:graphicData uri="http://schemas.openxmlformats.org/drawingml/2006/table">
            <a:tbl>
              <a:tblPr/>
              <a:tblGrid>
                <a:gridCol w="2878200"/>
                <a:gridCol w="893880"/>
                <a:gridCol w="892080"/>
                <a:gridCol w="892080"/>
                <a:gridCol w="890640"/>
                <a:gridCol w="893880"/>
                <a:gridCol w="892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主叫时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576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5760">
                      <a:solidFill>
                        <a:srgbClr val="63252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32523"/>
                      </a:solidFill>
                    </a:lnL>
                    <a:lnR w="576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5760">
                      <a:solidFill>
                        <a:srgbClr val="63252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32523"/>
                      </a:solidFill>
                    </a:lnL>
                    <a:lnR w="576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5760">
                      <a:solidFill>
                        <a:srgbClr val="63252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32523"/>
                      </a:solidFill>
                    </a:lnL>
                    <a:lnR w="576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5760">
                      <a:solidFill>
                        <a:srgbClr val="63252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32523"/>
                      </a:solidFill>
                    </a:lnL>
                    <a:lnR w="576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5760">
                      <a:solidFill>
                        <a:srgbClr val="63252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32523"/>
                      </a:solidFill>
                    </a:lnL>
                    <a:lnR w="576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5760">
                      <a:solidFill>
                        <a:srgbClr val="63252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5760">
                      <a:solidFill>
                        <a:srgbClr val="63252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方式一计费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元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5760">
                      <a:solidFill>
                        <a:srgbClr val="632523"/>
                      </a:solidFill>
                    </a:lnR>
                    <a:lnT w="5760">
                      <a:solidFill>
                        <a:srgbClr val="632523"/>
                      </a:solidFill>
                    </a:lnT>
                    <a:lnB w="5760">
                      <a:solidFill>
                        <a:srgbClr val="63252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32523"/>
                      </a:solidFill>
                    </a:lnL>
                    <a:lnR w="5760">
                      <a:solidFill>
                        <a:srgbClr val="632523"/>
                      </a:solidFill>
                    </a:lnR>
                    <a:lnT w="5760">
                      <a:solidFill>
                        <a:srgbClr val="632523"/>
                      </a:solidFill>
                    </a:lnT>
                    <a:lnB w="5760">
                      <a:solidFill>
                        <a:srgbClr val="63252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32523"/>
                      </a:solidFill>
                    </a:lnL>
                    <a:lnR w="5760">
                      <a:solidFill>
                        <a:srgbClr val="632523"/>
                      </a:solidFill>
                    </a:lnR>
                    <a:lnT w="5760">
                      <a:solidFill>
                        <a:srgbClr val="632523"/>
                      </a:solidFill>
                    </a:lnT>
                    <a:lnB w="5760">
                      <a:solidFill>
                        <a:srgbClr val="63252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32523"/>
                      </a:solidFill>
                    </a:lnL>
                    <a:lnR w="5760">
                      <a:solidFill>
                        <a:srgbClr val="632523"/>
                      </a:solidFill>
                    </a:lnR>
                    <a:lnT w="5760">
                      <a:solidFill>
                        <a:srgbClr val="632523"/>
                      </a:solidFill>
                    </a:lnT>
                    <a:lnB w="5760">
                      <a:solidFill>
                        <a:srgbClr val="63252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32523"/>
                      </a:solidFill>
                    </a:lnL>
                    <a:lnR w="5760">
                      <a:solidFill>
                        <a:srgbClr val="632523"/>
                      </a:solidFill>
                    </a:lnR>
                    <a:lnT w="5760">
                      <a:solidFill>
                        <a:srgbClr val="632523"/>
                      </a:solidFill>
                    </a:lnT>
                    <a:lnB w="5760">
                      <a:solidFill>
                        <a:srgbClr val="63252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32523"/>
                      </a:solidFill>
                    </a:lnL>
                    <a:lnR w="5760">
                      <a:solidFill>
                        <a:srgbClr val="632523"/>
                      </a:solidFill>
                    </a:lnR>
                    <a:lnT w="5760">
                      <a:solidFill>
                        <a:srgbClr val="632523"/>
                      </a:solidFill>
                    </a:lnT>
                    <a:lnB w="5760">
                      <a:solidFill>
                        <a:srgbClr val="63252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5760">
                      <a:solidFill>
                        <a:srgbClr val="632523"/>
                      </a:solidFill>
                    </a:lnT>
                    <a:lnB w="5760">
                      <a:solidFill>
                        <a:srgbClr val="63252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方式二计费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元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5760">
                      <a:solidFill>
                        <a:srgbClr val="632523"/>
                      </a:solidFill>
                    </a:lnR>
                    <a:lnT w="576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32523"/>
                      </a:solidFill>
                    </a:lnL>
                    <a:lnR w="5760">
                      <a:solidFill>
                        <a:srgbClr val="632523"/>
                      </a:solidFill>
                    </a:lnR>
                    <a:lnT w="576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32523"/>
                      </a:solidFill>
                    </a:lnL>
                    <a:lnR w="5760">
                      <a:solidFill>
                        <a:srgbClr val="632523"/>
                      </a:solidFill>
                    </a:lnR>
                    <a:lnT w="576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32523"/>
                      </a:solidFill>
                    </a:lnL>
                    <a:lnR w="5760">
                      <a:solidFill>
                        <a:srgbClr val="632523"/>
                      </a:solidFill>
                    </a:lnR>
                    <a:lnT w="576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32523"/>
                      </a:solidFill>
                    </a:lnL>
                    <a:lnR w="5760">
                      <a:solidFill>
                        <a:srgbClr val="632523"/>
                      </a:solidFill>
                    </a:lnR>
                    <a:lnT w="576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32523"/>
                      </a:solidFill>
                    </a:lnL>
                    <a:lnR w="5760">
                      <a:solidFill>
                        <a:srgbClr val="632523"/>
                      </a:solidFill>
                    </a:lnR>
                    <a:lnT w="576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576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文本框 2"/>
          <p:cNvSpPr/>
          <p:nvPr/>
        </p:nvSpPr>
        <p:spPr>
          <a:xfrm>
            <a:off x="3532320" y="4156200"/>
            <a:ext cx="6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3"/>
          <p:cNvSpPr/>
          <p:nvPr/>
        </p:nvSpPr>
        <p:spPr>
          <a:xfrm>
            <a:off x="4416480" y="4156200"/>
            <a:ext cx="6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4"/>
          <p:cNvSpPr/>
          <p:nvPr/>
        </p:nvSpPr>
        <p:spPr>
          <a:xfrm>
            <a:off x="5308560" y="4156200"/>
            <a:ext cx="6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5"/>
          <p:cNvSpPr/>
          <p:nvPr/>
        </p:nvSpPr>
        <p:spPr>
          <a:xfrm>
            <a:off x="6072120" y="4156200"/>
            <a:ext cx="9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95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6"/>
          <p:cNvSpPr/>
          <p:nvPr/>
        </p:nvSpPr>
        <p:spPr>
          <a:xfrm>
            <a:off x="7008840" y="4156200"/>
            <a:ext cx="9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7"/>
          <p:cNvSpPr/>
          <p:nvPr/>
        </p:nvSpPr>
        <p:spPr>
          <a:xfrm>
            <a:off x="7891560" y="4156200"/>
            <a:ext cx="9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8"/>
          <p:cNvSpPr/>
          <p:nvPr/>
        </p:nvSpPr>
        <p:spPr>
          <a:xfrm>
            <a:off x="3514680" y="4665600"/>
            <a:ext cx="61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9"/>
          <p:cNvSpPr/>
          <p:nvPr/>
        </p:nvSpPr>
        <p:spPr>
          <a:xfrm>
            <a:off x="4417920" y="4665600"/>
            <a:ext cx="6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0"/>
          <p:cNvSpPr/>
          <p:nvPr/>
        </p:nvSpPr>
        <p:spPr>
          <a:xfrm>
            <a:off x="5308560" y="4665600"/>
            <a:ext cx="61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1"/>
          <p:cNvSpPr/>
          <p:nvPr/>
        </p:nvSpPr>
        <p:spPr>
          <a:xfrm>
            <a:off x="6192720" y="4665600"/>
            <a:ext cx="6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2"/>
          <p:cNvSpPr/>
          <p:nvPr/>
        </p:nvSpPr>
        <p:spPr>
          <a:xfrm>
            <a:off x="7101000" y="4665600"/>
            <a:ext cx="6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3"/>
          <p:cNvSpPr/>
          <p:nvPr/>
        </p:nvSpPr>
        <p:spPr>
          <a:xfrm>
            <a:off x="7891560" y="4667400"/>
            <a:ext cx="9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组合 16"/>
          <p:cNvGrpSpPr/>
          <p:nvPr/>
        </p:nvGrpSpPr>
        <p:grpSpPr>
          <a:xfrm>
            <a:off x="85680" y="384120"/>
            <a:ext cx="9255240" cy="1809720"/>
            <a:chOff x="85680" y="384120"/>
            <a:chExt cx="9255240" cy="1809720"/>
          </a:xfrm>
        </p:grpSpPr>
        <p:grpSp>
          <p:nvGrpSpPr>
            <p:cNvPr id="102" name="组合 1"/>
            <p:cNvGrpSpPr/>
            <p:nvPr/>
          </p:nvGrpSpPr>
          <p:grpSpPr>
            <a:xfrm>
              <a:off x="85680" y="384120"/>
              <a:ext cx="9255240" cy="1809720"/>
              <a:chOff x="85680" y="384120"/>
              <a:chExt cx="9255240" cy="1809720"/>
            </a:xfrm>
          </p:grpSpPr>
          <p:sp>
            <p:nvSpPr>
              <p:cNvPr id="103" name="Text Box 21"/>
              <p:cNvSpPr/>
              <p:nvPr/>
            </p:nvSpPr>
            <p:spPr>
              <a:xfrm>
                <a:off x="85680" y="712440"/>
                <a:ext cx="2098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计费方式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8"/>
              <p:cNvSpPr/>
              <p:nvPr/>
            </p:nvSpPr>
            <p:spPr>
              <a:xfrm>
                <a:off x="2077560" y="9946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" name="组合 14"/>
              <p:cNvGrpSpPr/>
              <p:nvPr/>
            </p:nvGrpSpPr>
            <p:grpSpPr>
              <a:xfrm>
                <a:off x="2365200" y="715320"/>
                <a:ext cx="6975720" cy="984240"/>
                <a:chOff x="2365200" y="715320"/>
                <a:chExt cx="6975720" cy="984240"/>
              </a:xfrm>
            </p:grpSpPr>
            <p:grpSp>
              <p:nvGrpSpPr>
                <p:cNvPr id="106" name="组合 13"/>
                <p:cNvGrpSpPr/>
                <p:nvPr/>
              </p:nvGrpSpPr>
              <p:grpSpPr>
                <a:xfrm>
                  <a:off x="2365200" y="718200"/>
                  <a:ext cx="6701400" cy="981360"/>
                  <a:chOff x="2365200" y="718200"/>
                  <a:chExt cx="6701400" cy="981360"/>
                </a:xfrm>
              </p:grpSpPr>
              <p:sp>
                <p:nvSpPr>
                  <p:cNvPr id="107" name="Rectangle 20"/>
                  <p:cNvSpPr/>
                  <p:nvPr/>
                </p:nvSpPr>
                <p:spPr>
                  <a:xfrm rot="10800000">
                    <a:off x="4670640" y="1222560"/>
                    <a:ext cx="4250880" cy="427320"/>
                  </a:xfrm>
                  <a:prstGeom prst="rect">
                    <a:avLst/>
                  </a:prstGeom>
                  <a:solidFill>
                    <a:srgbClr val="d6f5f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Rectangle 20"/>
                  <p:cNvSpPr/>
                  <p:nvPr/>
                </p:nvSpPr>
                <p:spPr>
                  <a:xfrm rot="10800000">
                    <a:off x="2365200" y="1224000"/>
                    <a:ext cx="3198960" cy="427320"/>
                  </a:xfrm>
                  <a:prstGeom prst="rect">
                    <a:avLst/>
                  </a:prstGeom>
                  <a:solidFill>
                    <a:srgbClr val="cbe8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Rectangle 20"/>
                  <p:cNvSpPr/>
                  <p:nvPr/>
                </p:nvSpPr>
                <p:spPr>
                  <a:xfrm rot="10800000">
                    <a:off x="4671000" y="760680"/>
                    <a:ext cx="4245840" cy="427680"/>
                  </a:xfrm>
                  <a:prstGeom prst="rect">
                    <a:avLst/>
                  </a:prstGeom>
                  <a:solidFill>
                    <a:srgbClr val="9bbb5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Text Box 12"/>
                  <p:cNvSpPr/>
                  <p:nvPr/>
                </p:nvSpPr>
                <p:spPr>
                  <a:xfrm>
                    <a:off x="5760360" y="1179000"/>
                    <a:ext cx="3160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Times New Roman"/>
                        <a:ea typeface="黑体"/>
                      </a:rPr>
                      <a:t>加超时费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黑体"/>
                      </a:rPr>
                      <a:t>0.19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Times New Roman"/>
                        <a:ea typeface="黑体"/>
                      </a:rPr>
                      <a:t>元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黑体"/>
                      </a:rPr>
                      <a:t>/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Times New Roman"/>
                        <a:ea typeface="黑体"/>
                      </a:rPr>
                      <a:t>分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Text Box 15"/>
                  <p:cNvSpPr/>
                  <p:nvPr/>
                </p:nvSpPr>
                <p:spPr>
                  <a:xfrm>
                    <a:off x="3017160" y="1179000"/>
                    <a:ext cx="2450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Times New Roman"/>
                        <a:ea typeface="黑体"/>
                      </a:rPr>
                      <a:t>基本费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黑体"/>
                      </a:rPr>
                      <a:t>88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Times New Roman"/>
                        <a:ea typeface="黑体"/>
                      </a:rPr>
                      <a:t>元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Rectangle 20"/>
                  <p:cNvSpPr/>
                  <p:nvPr/>
                </p:nvSpPr>
                <p:spPr>
                  <a:xfrm rot="10800000">
                    <a:off x="2365920" y="765000"/>
                    <a:ext cx="2305080" cy="42732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Text Box 21"/>
                  <p:cNvSpPr/>
                  <p:nvPr/>
                </p:nvSpPr>
                <p:spPr>
                  <a:xfrm>
                    <a:off x="2540880" y="718200"/>
                    <a:ext cx="2098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Times New Roman"/>
                        <a:ea typeface="黑体"/>
                      </a:rPr>
                      <a:t>基本费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黑体"/>
                      </a:rPr>
                      <a:t>58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Times New Roman"/>
                        <a:ea typeface="黑体"/>
                      </a:rPr>
                      <a:t>元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Line 22"/>
                  <p:cNvSpPr/>
                  <p:nvPr/>
                </p:nvSpPr>
                <p:spPr>
                  <a:xfrm>
                    <a:off x="2365920" y="1210320"/>
                    <a:ext cx="6700680" cy="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5" name="Text Box 18"/>
                <p:cNvSpPr/>
                <p:nvPr/>
              </p:nvSpPr>
              <p:spPr>
                <a:xfrm>
                  <a:off x="5310360" y="715320"/>
                  <a:ext cx="4030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加超时费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0.25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元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/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分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" name="Text Box 23"/>
              <p:cNvSpPr/>
              <p:nvPr/>
            </p:nvSpPr>
            <p:spPr>
              <a:xfrm>
                <a:off x="4639320" y="384120"/>
                <a:ext cx="117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150</a:t>
                </a:r>
                <a:r>
                  <a:rPr b="0" lang="zh-CN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40"/>
              <p:cNvSpPr/>
              <p:nvPr/>
            </p:nvSpPr>
            <p:spPr>
              <a:xfrm>
                <a:off x="5564520" y="1617840"/>
                <a:ext cx="949320" cy="57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000" rIns="63000" tIns="31680" bIns="3168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350</a:t>
                </a:r>
                <a:r>
                  <a:rPr b="0" lang="zh-CN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 Box 21"/>
              <p:cNvSpPr/>
              <p:nvPr/>
            </p:nvSpPr>
            <p:spPr>
              <a:xfrm>
                <a:off x="91800" y="1175760"/>
                <a:ext cx="2098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计费方式二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直接连接符 14"/>
            <p:cNvSpPr/>
            <p:nvPr/>
          </p:nvSpPr>
          <p:spPr>
            <a:xfrm>
              <a:off x="4665240" y="594720"/>
              <a:ext cx="0" cy="612720"/>
            </a:xfrm>
            <a:prstGeom prst="line">
              <a:avLst/>
            </a:prstGeom>
            <a:ln w="2844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直接连接符 15"/>
            <p:cNvSpPr/>
            <p:nvPr/>
          </p:nvSpPr>
          <p:spPr>
            <a:xfrm>
              <a:off x="5565240" y="1232280"/>
              <a:ext cx="0" cy="612720"/>
            </a:xfrm>
            <a:prstGeom prst="line">
              <a:avLst/>
            </a:prstGeom>
            <a:ln w="2844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 Box 5"/>
          <p:cNvSpPr/>
          <p:nvPr/>
        </p:nvSpPr>
        <p:spPr>
          <a:xfrm>
            <a:off x="638280" y="5740560"/>
            <a:ext cx="66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哪种计费方式更省钱与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主叫时间有关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文本框 3"/>
          <p:cNvSpPr/>
          <p:nvPr/>
        </p:nvSpPr>
        <p:spPr>
          <a:xfrm>
            <a:off x="733320" y="4578480"/>
            <a:ext cx="785196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考虑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t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取值时，两个主叫限定时间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50 min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和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50 min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不同时间范围的划分点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4"/>
          <p:cNvSpPr/>
          <p:nvPr/>
        </p:nvSpPr>
        <p:spPr>
          <a:xfrm>
            <a:off x="733320" y="2619360"/>
            <a:ext cx="68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计费时首先要看主叫是否超过限定时间，主叫不超过限定时间，月使用费一定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5"/>
          <p:cNvSpPr/>
          <p:nvPr/>
        </p:nvSpPr>
        <p:spPr>
          <a:xfrm>
            <a:off x="2058840" y="3773520"/>
            <a:ext cx="43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主叫超过限定时间，超时部分加收超时费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6"/>
          <p:cNvSpPr/>
          <p:nvPr/>
        </p:nvSpPr>
        <p:spPr>
          <a:xfrm>
            <a:off x="398520" y="730080"/>
            <a:ext cx="818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46c0a"/>
                </a:solidFill>
                <a:latin typeface="Times New Roman"/>
                <a:ea typeface="黑体"/>
              </a:rPr>
              <a:t>问题</a:t>
            </a:r>
            <a:r>
              <a:rPr b="0" lang="en-US" sz="2800" spc="-1" strike="noStrike">
                <a:solidFill>
                  <a:srgbClr val="e46c0a"/>
                </a:solidFill>
                <a:latin typeface="Times New Roman"/>
                <a:ea typeface="黑体"/>
              </a:rPr>
              <a:t>1 </a:t>
            </a:r>
            <a:r>
              <a:rPr b="0" lang="zh-CN" sz="2800" spc="-1" strike="noStrike">
                <a:solidFill>
                  <a:srgbClr val="e46c0a"/>
                </a:solidFill>
                <a:latin typeface="Times New Roman"/>
                <a:ea typeface="黑体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设一个月内移动电话主叫为 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t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in (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正整数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列表说明：当 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t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不同时间范围内取值时，按方式一和方式二如何计费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235080" y="604800"/>
            <a:ext cx="86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t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不同时间范围内取值时，方式一和方式二的计费如下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49120" y="1895400"/>
          <a:ext cx="8672760" cy="3786120"/>
        </p:xfrm>
        <a:graphic>
          <a:graphicData uri="http://schemas.openxmlformats.org/drawingml/2006/table">
            <a:tbl>
              <a:tblPr/>
              <a:tblGrid>
                <a:gridCol w="3376800"/>
                <a:gridCol w="2609640"/>
                <a:gridCol w="2686320"/>
              </a:tblGrid>
              <a:tr h="600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主叫时间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方式一计费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方式二计费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小于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等于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于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0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且小于</a:t>
                      </a:r>
                      <a:r>
                        <a:rPr b="0" i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等于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于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文本框 2"/>
          <p:cNvSpPr/>
          <p:nvPr/>
        </p:nvSpPr>
        <p:spPr>
          <a:xfrm>
            <a:off x="4673520" y="2552760"/>
            <a:ext cx="6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"/>
          <p:cNvSpPr/>
          <p:nvPr/>
        </p:nvSpPr>
        <p:spPr>
          <a:xfrm>
            <a:off x="7302600" y="2558880"/>
            <a:ext cx="61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3"/>
          <p:cNvSpPr/>
          <p:nvPr/>
        </p:nvSpPr>
        <p:spPr>
          <a:xfrm>
            <a:off x="4673520" y="3181320"/>
            <a:ext cx="6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4"/>
          <p:cNvSpPr/>
          <p:nvPr/>
        </p:nvSpPr>
        <p:spPr>
          <a:xfrm>
            <a:off x="7302600" y="3187800"/>
            <a:ext cx="61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5"/>
          <p:cNvSpPr/>
          <p:nvPr/>
        </p:nvSpPr>
        <p:spPr>
          <a:xfrm>
            <a:off x="3635280" y="3832200"/>
            <a:ext cx="30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8+0.25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6"/>
          <p:cNvSpPr/>
          <p:nvPr/>
        </p:nvSpPr>
        <p:spPr>
          <a:xfrm>
            <a:off x="7302600" y="3833640"/>
            <a:ext cx="61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7"/>
          <p:cNvSpPr/>
          <p:nvPr/>
        </p:nvSpPr>
        <p:spPr>
          <a:xfrm>
            <a:off x="7302600" y="4470480"/>
            <a:ext cx="61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8"/>
          <p:cNvSpPr/>
          <p:nvPr/>
        </p:nvSpPr>
        <p:spPr>
          <a:xfrm>
            <a:off x="4572000" y="4475160"/>
            <a:ext cx="76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9"/>
          <p:cNvSpPr/>
          <p:nvPr/>
        </p:nvSpPr>
        <p:spPr>
          <a:xfrm>
            <a:off x="3619440" y="5106960"/>
            <a:ext cx="30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8+0.25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0"/>
          <p:cNvSpPr/>
          <p:nvPr/>
        </p:nvSpPr>
        <p:spPr>
          <a:xfrm>
            <a:off x="6049800" y="5121360"/>
            <a:ext cx="30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88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0.19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50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35080" y="1981080"/>
          <a:ext cx="8672400" cy="3786480"/>
        </p:xfrm>
        <a:graphic>
          <a:graphicData uri="http://schemas.openxmlformats.org/drawingml/2006/table">
            <a:tbl>
              <a:tblPr/>
              <a:tblGrid>
                <a:gridCol w="3376440"/>
                <a:gridCol w="2610000"/>
                <a:gridCol w="26859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主叫时间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方式一计费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方式二计费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小于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等于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于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0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且小于</a:t>
                      </a:r>
                      <a:r>
                        <a:rPr b="0" i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8+0.25(t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等于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于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8+0.25(t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8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19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50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文本框 2"/>
          <p:cNvSpPr/>
          <p:nvPr/>
        </p:nvSpPr>
        <p:spPr>
          <a:xfrm>
            <a:off x="235080" y="692280"/>
            <a:ext cx="850572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46c0a"/>
                </a:solidFill>
                <a:latin typeface="Times New Roman"/>
                <a:ea typeface="黑体"/>
              </a:rPr>
              <a:t>问题</a:t>
            </a:r>
            <a:r>
              <a:rPr b="0" lang="en-US" sz="2800" spc="-1" strike="noStrike">
                <a:solidFill>
                  <a:srgbClr val="e46c0a"/>
                </a:solidFill>
                <a:latin typeface="Times New Roman"/>
                <a:ea typeface="黑体"/>
              </a:rPr>
              <a:t>2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观察你的列表，你能从中发现如何根据主叫时间选择省钱的计费方式吗？通过计算验证你的看法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361800" y="1884240"/>
          <a:ext cx="8672760" cy="1866960"/>
        </p:xfrm>
        <a:graphic>
          <a:graphicData uri="http://schemas.openxmlformats.org/drawingml/2006/table">
            <a:tbl>
              <a:tblPr/>
              <a:tblGrid>
                <a:gridCol w="3376800"/>
                <a:gridCol w="2609640"/>
                <a:gridCol w="2686320"/>
              </a:tblGrid>
              <a:tr h="600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主叫时间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方式一计费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方式二计费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小于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等于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文本框 2"/>
          <p:cNvSpPr/>
          <p:nvPr/>
        </p:nvSpPr>
        <p:spPr>
          <a:xfrm>
            <a:off x="460440" y="4164120"/>
            <a:ext cx="84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①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≤15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方式一计费少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58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元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"/>
          <p:cNvSpPr/>
          <p:nvPr/>
        </p:nvSpPr>
        <p:spPr>
          <a:xfrm>
            <a:off x="235080" y="1117440"/>
            <a:ext cx="84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1)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比较下列表格的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行，你能得出什么结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3"/>
          <p:cNvSpPr/>
          <p:nvPr/>
        </p:nvSpPr>
        <p:spPr>
          <a:xfrm>
            <a:off x="6140160" y="243360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4"/>
          <p:cNvSpPr/>
          <p:nvPr/>
        </p:nvSpPr>
        <p:spPr>
          <a:xfrm>
            <a:off x="6205320" y="307008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235080" y="1407960"/>
          <a:ext cx="8672400" cy="2538720"/>
        </p:xfrm>
        <a:graphic>
          <a:graphicData uri="http://schemas.openxmlformats.org/drawingml/2006/table">
            <a:tbl>
              <a:tblPr/>
              <a:tblGrid>
                <a:gridCol w="3376440"/>
                <a:gridCol w="2610000"/>
                <a:gridCol w="26859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主叫时间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方式一计费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方式二计费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等于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于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0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且小于</a:t>
                      </a:r>
                      <a:r>
                        <a:rPr b="0" i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8+0.25(t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等于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文本框 1"/>
          <p:cNvSpPr/>
          <p:nvPr/>
        </p:nvSpPr>
        <p:spPr>
          <a:xfrm>
            <a:off x="235080" y="544680"/>
            <a:ext cx="84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2)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比较下列表格的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行，你能得出什么结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2"/>
          <p:cNvSpPr/>
          <p:nvPr/>
        </p:nvSpPr>
        <p:spPr>
          <a:xfrm>
            <a:off x="6059160" y="326232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4"/>
          <p:cNvSpPr/>
          <p:nvPr/>
        </p:nvSpPr>
        <p:spPr>
          <a:xfrm>
            <a:off x="6005160" y="200988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&l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5"/>
          <p:cNvSpPr/>
          <p:nvPr/>
        </p:nvSpPr>
        <p:spPr>
          <a:xfrm>
            <a:off x="235080" y="4121280"/>
            <a:ext cx="8902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当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t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大于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150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且小于</a:t>
            </a:r>
            <a:r>
              <a:rPr b="0" i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350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时，存在某一个值，使得两种方式计费相等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8"/>
          <p:cNvSpPr/>
          <p:nvPr/>
        </p:nvSpPr>
        <p:spPr>
          <a:xfrm>
            <a:off x="1965240" y="5330880"/>
            <a:ext cx="7172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依题意 ，得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8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0.25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50) = 88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           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t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27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Administrator</dc:creator>
  <dc:description/>
  <dc:language>en-US</dc:language>
  <cp:lastModifiedBy>Administrator</cp:lastModifiedBy>
  <dcterms:modified xsi:type="dcterms:W3CDTF">2018-08-16T13:53:32Z</dcterms:modified>
  <cp:revision>5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489</vt:lpwstr>
  </property>
</Properties>
</file>